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3.gif" ContentType="image/gif"/>
  <Override PartName="/ppt/media/image24.png" ContentType="image/png"/>
  <Override PartName="/ppt/media/image21.gif" ContentType="image/gif"/>
  <Override PartName="/ppt/media/image18.gif" ContentType="image/gif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737-670C-4EDB-90DF-4FB13E48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5D1-A850-49AB-9DAA-75C3711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FDFB4-22B2-4C3C-837A-BE580B6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FD3DF-E24F-4D6D-924B-B2B3D5C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7D69A-8BEF-42E7-8E7E-0E607ABF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573F-6CF2-4FE5-8B2C-34A51B11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32AAC-8583-41C7-828B-D861773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FC957-78F4-4673-80F1-4364BCD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B73D4-C831-445C-AB5D-938C463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258DC-DF4D-4524-B272-FF303917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7F47-57A0-4443-8EAB-B1F720D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FD766-D9C6-4603-934C-4F3AAB86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421-7FAC-418E-94BC-A40C117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3A62-B072-4F19-A79E-032E75C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386D-F1F8-40FD-AB95-AE42907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9F21B-7C8C-44F8-AE91-9BD6A77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9810F-06E8-442D-B070-E3592EE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F99AC-09DC-4126-9C31-CA6B120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B334B-F705-47A7-94FF-A678762D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61805-53AE-41CE-A155-6A4A3A06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FC0EC-B5BC-4BE2-AF8B-7E01868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61DDD-E5B5-49E2-AAA5-A58B3A2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A456E-2F3E-47E3-8338-D05CD1CA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0AF-BA56-4530-A55B-C23203C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FD97B-4C95-4005-9B5F-9706B574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D3F7-F74E-4290-A2DA-AAA768F2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3D22-70DB-4A5D-B952-AB7950D3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68E2-32D1-46AA-AE5E-2443D04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923DD-3A09-4EF8-A98D-37BA7AB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D5AA-49CF-4A0C-8140-0A15016F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B9BFA-11B3-4D7E-875F-577722AD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D6D2-4BEC-4FA2-BC36-4E06F62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7F165-3256-41B9-8831-1872520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AFD93-57DF-4122-B807-090168A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2975-60D3-40C3-BF6B-2FD774E9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16252-8D70-43B8-843F-C6DDF41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B71A8-6893-41E9-ADE4-5D530996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D0B17-B65B-453B-B7EA-E7050A6A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87753-AA6F-4478-87D0-824764CE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61ACD-ECBE-4784-A528-6DDAC8A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D9C0F-3A43-4A9B-BCED-76D2628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ECE4C-D08F-436A-B031-1FCF68C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2FA02-D89C-4983-A6C9-04BB7F8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0D48C-705E-4B9E-9DA5-6731AEA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0FE59-073B-43E7-AF84-AF5BE89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AED-C858-412C-960B-C4E36F3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BE33B-A0B7-4787-B502-D67185E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0D7A4-777F-4A7E-BDF9-C3ADFF6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4D2CC-1CFB-4B7C-AE93-215B7796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932AE-90B3-4648-A097-3AFBD48C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C6189-F4E6-4554-A067-EC87CF2E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C9831-D9B6-47A6-AD48-84A3B77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C578A-941D-4D62-A2BA-CFBA3E8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58F91-7CA0-494F-9DA0-888EABCE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92B87-E7E9-46E0-8378-DE1A6BF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13FB7-CB05-4CE2-BAC4-548D716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2609-C528-4728-9533-F09BACFD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C8A7D-232A-4F61-A407-B790447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ADDD1-A54C-4D0D-A4ED-7DB4F2D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D0926-A265-41BE-A9C0-04394EA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460A4-38E5-4BD9-BACB-47441802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2D206-1D59-46DE-8653-D9CA9A16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23C30-E17B-4491-AE05-6CFB7F3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2DE5-D09C-4D70-8BE9-20A2A881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F4335-D11D-48B0-A308-65738055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EDB57-A047-415C-BCED-F0ACBF0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6F02D-FF01-4072-8FB7-C8F2884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CFB-97AE-4E02-8065-4462B8A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72649-0C65-4AA9-985E-02CB617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E72E5-9B2D-40AE-B35D-BDA38F45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39EF7-418A-40A8-999F-5FEBF3D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79A27-82CF-439A-9202-05523F0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65F83-3918-419A-9E34-2064C10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18AD3-4E32-4DDF-89D8-3786EC0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A48FD-E9F2-49B0-99ED-F6F871B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B6795-75A0-4FBD-B61C-14551E1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9815E-04B2-4F73-B08B-C611A2B1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D9286-27E3-4CC1-86F2-63BD8768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E0C0-D9D6-4129-A887-F6439A1A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7949E-EA66-4A25-A7B3-2E1FF94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F17C1-3104-4117-83D9-13023CD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3679F-97BB-450C-8FCE-2178C59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EBDE2-AE68-4256-B39A-BFA069FE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A1A8E-73B4-4B19-89C5-56C2CC2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E6D19-CDF5-4390-9C3A-5C710B13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4C925-78B1-48B3-B70F-A9EEB4B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C3515-A114-43DF-B176-7DF858C8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417E8-0464-4696-AA76-5CABCC4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93E88-A07D-47ED-ACA5-79A4086A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43F2-E1E1-41A1-AE2A-7324FA4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F7561-C4D9-4CCB-9106-D9500CFD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E35CE-9CB3-4E61-AF2F-307B49F8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1BD3B-8507-4B87-91EA-54BB705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226C5-F624-4B33-B7C0-FCBD4551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53F10-A410-438E-A0C8-47D161F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169C0-AEC2-4A83-9E68-0D153BD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91303-0376-4180-8F6B-DB0F152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CE7D4-725F-4DF3-BC6F-4F6107B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2C8D3-4314-4109-8CC6-17BBD73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E2A93-93AD-40A1-88CE-5A82B298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1C9-8F4F-4037-9F51-730F20A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A3461-E915-47A7-9A76-E34DA79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27F6A-BCAE-45D6-B816-007B564F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D0D1D-7FB7-4236-9DE5-0954A86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9B777-B646-44A8-B1C1-3877C69E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E96DC-A7E1-49E2-BB77-5A33917B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F6E47-BB34-4CCE-91CF-9C6C3BD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C7E49-ABFF-481B-80E2-7CDB7C7E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F7418-7C90-4947-83B4-F9EBD2D1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8CDD6-5034-4332-A079-812F2E35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D5D0C-07B3-44CF-A92B-11FC8E5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C36-123E-4AF3-BC93-6BAB61D1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B5C-5E26-43E5-B191-DD64BBB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42D7D-B7A2-4457-809F-46E332C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79705-5EA6-4FC2-8EF9-5CF16CC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5FFE6-A443-49FE-935A-14D6335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52CD6-9876-4A43-BF1E-06CBED28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29B7F-74BE-42AE-85D0-93D601F9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605C3-74DC-453E-B527-44F93B09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F7FD0-6621-44C3-A4BF-4F0D3AB2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D8E2E-A8D6-4726-9C06-B44D0F18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90C64-D324-460B-A312-0DCFF694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F590E-0439-452A-A1EE-CE28281C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99CA-AEF5-4EBB-BA55-9489292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66CCC-163E-44B0-A2D8-F440BE9D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2B988-0FBE-4566-B0C6-FF12EE1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53A267-9BD1-462A-B74A-444CBBE5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6D6EB-8D0B-441C-AF02-58F77EE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E91AD-F97D-483C-B991-945A03D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25E08-3305-43A4-98BD-69CF91F0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EAF7A-29DD-468F-9AD4-84BBE8C8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502C02-E49B-4410-A31A-A334879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1BDD28-56A7-4425-8CE1-42893ADA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26D656-28BA-4A66-86B9-437B5BA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D3C3-1951-4B0D-9B72-E67A3E7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2AC433-DDAD-46FD-A94F-3A770C4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772B37-656D-4089-B6CF-A2D974A1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253AF0-224F-4639-931E-155C370D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CE3F8F-8BF4-412B-971C-5B4B0ED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5148FD-B8A6-4FF9-ABAB-4DDA671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DA06ED-B92C-4E63-A168-6D91EBB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1F0973-61A6-417C-AF27-F5390FC5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675F4D-2521-469C-B4BA-8D0100BC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7C086B-160F-438A-923B-A1E33825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7AAB9-9FAC-420A-8ED3-EA8B254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0E6B-7163-4744-AE4D-2BFA04E7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9D8F4-9A34-4286-8301-156D6CF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97398-868E-493E-8BC4-4646267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E1B06-D34F-4DE4-8D02-5F9403F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73443-AC7D-462D-9B07-779A84F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78534-3F7F-49CA-9938-3FDE20F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31137-1903-4456-92F4-57F3B25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CBFA1-4972-4042-86B4-0540233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7C7E0-F6BB-4090-A32D-4826724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028FB-4B73-401C-A1F0-8DCD62D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886BC-D2F4-453A-B174-1B5E86AB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EF6C-ABB7-41A1-8C10-0441D1FB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9EE0E-913D-41CD-AF69-019C5BC9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5EB8F4-25A1-4B7E-B9EB-B6439C4D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9C4DCE-DE21-47B5-ADA4-49701C2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C992AD-C256-4E0C-80F1-8B1A30F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719D864-6322-4838-A692-4B3F06B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46FD62-6280-4868-893B-A1A123BB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92194B-ECB9-4B82-8C28-6CED39B5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489256-1FDF-4F79-9045-AAF31CF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B1B575-16FB-4FAA-916E-24206FA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25CCF6-D0F8-4FC2-821D-5955E54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5B0C-02D7-463C-A195-D46D6702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1B38DB-7917-43E8-B4BB-3DE5687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708DBC-864F-4793-8D7C-E77D0BFA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A3E143-5D3A-4294-A1CA-4F8B3B09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BB95DA-EEC6-4CD2-8190-5292E458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AA2D01-6934-481D-AB18-11B5A173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20B0D1-05E8-4656-ACE7-AC0ECEF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70C0EF-C68A-4DEA-9844-C7F12D2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D9AE3F-3121-47A4-B1D4-48D06F83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374255-09D8-4B34-A12A-DC1BD2BD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661A1D-B53F-47E7-A2F8-A7A66DC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8DD9-2CFF-4316-A110-07649AA4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74A56A-8D82-4728-85C1-D3B23F9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D1B73F-EE59-4FA5-A147-CB3E698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169EA5-827D-4F03-8EF7-DD8A3C3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9BA635-EEFA-4C69-9A99-15AE2019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0CC2A4-65A4-4076-B0D2-CA67883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4E6CA6-CEE9-4847-95B2-AE5CD4C5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8B5B3A-0D35-45C1-94B5-ACBF786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024D03-AC32-4F1F-B46B-9BF4CEB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B3AE3C-4324-47ED-922F-C5FDA6D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320EC1-36A1-4852-8FC7-870A87D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43E2-334B-41B8-947B-ACD969F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B36F74-BF0A-4F4B-A1BC-1764EA8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3E4CAD-D875-4A82-91D2-B90194F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6074F2-F026-4796-B059-EB86D1C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D285A0-FCF9-410E-8CDF-910ED33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2E01CA-9D3D-464C-B95E-A3D2511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4B3AAA-FA4C-4083-A338-98D645CE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F2563D-1056-4DF9-BD0F-0A2A021F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CFCB88-CF49-431E-B720-51E9FF69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DDE40-EA4B-44E6-A11D-804AA48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29D292-3D42-4227-A11E-A464D87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3C22-FE38-4604-9CE4-F9AE3B7E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B7B17-973C-4370-8ACD-00005199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B65780-74D0-4E41-A1A7-A047AEA1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7D2C0-9CD4-4FE1-BD95-639E8FE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E17390-BBE2-499B-B891-56E85A6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C805BB-0F8F-4E9C-9204-25E707C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933DC-4553-4AA8-9A7D-ECDEA71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8D298C-1370-4C4F-8DD7-75E0527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3799A-8A14-4781-BA3A-2A0D779A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AE295B-EF2B-408B-9AC4-B2B2271E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E3C5BC-5012-4CCF-9F3A-4C601172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66D9-490D-4C80-93CF-16B17AF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4D205-D19D-453B-858D-273DF67F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90B316-9B35-4114-9A61-7B026B9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678239-77B2-4C20-95E9-7AC706D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BB804-2EF5-40B1-9834-5489DD2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8C4080-B4A5-4AE8-93D9-861C9E39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4F824-03D6-4D69-ADB9-44CCDC0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E67FF3-4323-4605-ACAC-941FA08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B24570-519B-4681-83A1-6FC6370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2F9C7C-1D6A-4C82-BA27-A954635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7DE714-75E8-4B57-94D2-7E2C1266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FC8-BD37-428F-A0C7-E108B1DB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F1C3-0AC1-4E2A-8F44-B644C9DC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F7FF43-BBB5-412B-B882-644FCD39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418266-8EC6-4F5D-AB6D-B26CF401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A2D4D-4C53-4E18-BA23-3AF8EC5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6B513-10DA-400A-B5B9-8CB7E6A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EDCEF-9556-4478-9956-421C266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AE834B-BAD5-4AA5-BD41-65687A4B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4C0F5-FAD3-4F99-BD59-E99DFDE3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BB13A2-0CAC-4756-A812-50A42E0B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381317-07B4-470C-B1EA-59040DE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79E81-6BBB-40E0-A3EF-51B4767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84AA-C511-4B79-850A-D18177E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FE209-C1DD-4CFE-9515-BDC325A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F86FC-F60B-4777-9C0A-E286D6A4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2C024E-5D81-4FB6-8E50-43C12C3A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5F2B3-EB2E-472C-ADE7-4ECD7666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081C4E-167E-4D5A-A67A-88623B7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A9F5DC-1F3F-4546-9BDB-43E25A48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231175-37D3-4F08-B614-A9F35CC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FC56E-2555-4B4C-8A0C-1C37717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838D11-CD10-4A7F-A5C1-963FDDC5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C17F42-83E5-41BC-8804-2BAE9E4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476F-0D68-4D9D-89E7-0FB5369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973B37-39E4-46B9-8224-96A0CC3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68752F-C2B8-4589-AABA-88DBDC6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27B075-61FC-4BA4-AC52-3B62B55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99ECB5-6454-4047-B10C-071A0AA7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D1F8D1-BBD8-47C4-871F-1E5BD98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ECC4-9B80-4B10-A4C9-A1FDA3F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E933-6CFC-4D08-BB1F-EBD07A6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5A24-BB5B-4181-9E60-7C7A7F19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6E06-D3BE-44D2-BFDE-344B5CB9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8362-CF8A-4F20-B71B-72FD1C97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7709-01E5-4EF9-8E0A-56B5F540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0B445-85AE-49C6-A863-EADAACD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39F-D68D-41A7-BF46-D44359B2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3C48-CAC9-4573-9B9C-E9D3E286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26F3-462C-4DAC-BB2D-DFDD25D1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AA94-3FC8-441D-95F6-F59C4F1D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8930-02A9-41B6-89FA-05C0E09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4C53-7188-4099-B9FC-06AB27B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C3AA-1DD0-48DF-9C28-0F2597B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1FF3-7A45-4CAD-A6ED-471CB29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6019-E99C-49C5-9A20-C619DF1C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04A5-AE78-4C98-8D42-113CA059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479A-446D-4E5F-BD37-2A3BCD13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192-1C32-4DC0-B48A-36858B8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72C7-7FEC-4985-B5F4-5A861AE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0EE4-CC66-45D5-9BA2-E437E390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4364-D34A-4B12-80A1-37A7C9A2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1DFC-0AA3-4817-A892-C06ACECD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FA05-30D7-4568-8A16-A6A08130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1333-1EA4-4D6D-8351-DE6422A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E6DC-E9D3-4309-8890-6074A85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4E71-3AB8-4CAF-B2A2-AEE8B35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D7D7-35C9-4F7E-B5A3-DC0CDF1D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90FE-3969-4E8B-85D2-2FFD92AD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31D-C0AE-4277-8D95-AE174CA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1C72-9E26-401F-9B50-B0A0DF8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BC34F-0B8F-4225-B701-24EC4C5E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FC98-867C-4D4D-9DC5-6A5150D6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B1362-BCEC-495D-AF3E-009B3B5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61E6-73C9-491E-B9BD-8C371A6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58B9-B94D-40A4-A46A-5C3B3FD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D972-95C5-48E2-B520-9D547CA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6CB5-A995-4C7F-8055-164F4D5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0D7C-B348-4487-A3F8-8B69E50E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2E2E-E913-4F5C-9C57-35FA4FE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4E5-28B1-47B2-910D-7F23CD3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05BE-2F6E-4B86-BF40-D892EC2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0279-59D5-4E4B-B8C6-433F5A0A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E86D-B089-4DC2-84CA-3EE01EC9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69740-EF77-40C6-B4B2-572925AF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2FAB8-F5C8-4102-B4B5-AE5E454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DA61F-2C97-4FC1-8BB3-56E7AE62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C1C8E-05C2-4723-9BF0-53C003A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8A744-0BDD-4E59-AADB-4D7F139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BA3B1-D772-4E24-ADB8-92F3FF9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AFB77-A078-42DB-97CE-3775AAD4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218-3CF5-48CD-95B4-1127E11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54CF3-682A-4A4F-B90C-B97061A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20A4C-B030-4C7F-B462-6FAC0D7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DE895-B0DB-49D6-AB05-7D9D3E1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72432-FD66-4D20-92D5-FCF63816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CDACE-3B47-480A-B138-F4ED41C1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0741D-195A-43F7-9AE4-E3BCD1A6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5C3D-76F1-4E15-AE3D-E2EFF56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F32A8-9399-45FE-963A-A9D40809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D41C-34CF-4E90-9E95-98A0402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5E2A-228F-4A83-A275-E658E8F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6DF-661F-4C55-A3BB-6EF7121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32F6-CA7A-44FE-B358-0CFA3745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1C31-BC3F-4C8E-A443-FD27490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73E9-8596-40F6-91A9-5FEAE0D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5F8C-31F7-49EB-85AF-C383B8E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61D1-AE45-4A9F-8A88-A0B7AAD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5614-D80F-46B9-AAA2-EABE3EB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AAEDA-7F08-49C2-A449-628DA8F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7E071-4315-4DBA-AD4F-F0EA88F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41D98-DE02-4D77-B130-4A388713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60366-060E-4582-9E5B-F473D575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066-A084-4E9E-9602-7B474EF5DB34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6A0-BCD8-4025-85C0-820185D084D2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99CB-1BC5-4D05-B304-DEB39B43E28A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3883-F300-4F6F-8190-6D5CE7574863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BD0-6870-425E-A124-7652F14CAE0B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60C-7302-494E-9C2B-E3817C4A0C85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897A-DE0E-4FE1-B10A-07513EDCF9E4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70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4010-4365-4B90-84EB-86113B9F71AE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7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F72-B69B-4500-BB45-9334328D1F6C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6869-0535-4D66-A826-1102C1E6A32E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5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0404-3A16-4C3F-BE3C-9F372D0C89E4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ftr" idx="5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1D00-090A-4254-A3BE-0E99CDC6E6FA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9C8-1277-4833-A73D-FE920253D995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Num" idx="6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7C0B-8793-45C8-BC2C-784DC014B2E4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dt" idx="6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68D-BF70-4A57-8134-0C87A8918B16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ftr" idx="6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6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603-C697-472B-AE16-3E6262511EF9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6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058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6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DDB-B990-453E-A9B6-B576755CA1DE}" type="slidenum">
              <a:rPr b="0" lang="en-A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0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A04-65F8-40C6-A852-E499D01BDF5D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7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7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7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11A-A361-45D8-9430-E2DB5B6B4E23}" type="slidenum">
              <a:rPr b="0" lang="en-A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016-5006-4758-934F-3B3FF179359B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BEE-490D-4777-A078-0A0B3AA8C674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A932-E3E4-485D-9240-68C66E94DE29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9FB-87D9-431B-967C-772FA945FEA9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75A-F1D7-4F86-A5E3-C6A57E4C859B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8E1-C227-42BD-8865-E208D7828829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217-C732-4D7A-BDC2-239D531EE649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2CC-3082-415C-B7AD-8309A356A3A4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rebuchet MS"/>
              </a:rPr>
              <a:t>PROMOTING PHYSICAL ACTIV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34" name="Picture 2" descr="CAYIMOAG.jpe"/>
          <p:cNvPicPr/>
          <p:nvPr/>
        </p:nvPicPr>
        <p:blipFill>
          <a:blip r:embed="rId1"/>
          <a:stretch/>
        </p:blipFill>
        <p:spPr>
          <a:xfrm>
            <a:off x="3357720" y="421488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3" descr="Hockey_2.gif"/>
          <p:cNvPicPr/>
          <p:nvPr/>
        </p:nvPicPr>
        <p:blipFill>
          <a:blip r:embed="rId2"/>
          <a:stretch/>
        </p:blipFill>
        <p:spPr>
          <a:xfrm>
            <a:off x="1143000" y="450072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4" descr="Baseball_woman.gif"/>
          <p:cNvPicPr/>
          <p:nvPr/>
        </p:nvPicPr>
        <p:blipFill>
          <a:blip r:embed="rId3"/>
          <a:stretch/>
        </p:blipFill>
        <p:spPr>
          <a:xfrm>
            <a:off x="6643800" y="4286160"/>
            <a:ext cx="971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The health benefits of physical activ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hy do you participate in physical activit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physic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soci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emotion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39" name="Picture 3" descr="Yoga.gif"/>
          <p:cNvPicPr/>
          <p:nvPr/>
        </p:nvPicPr>
        <p:blipFill>
          <a:blip r:embed="rId1"/>
          <a:stretch/>
        </p:blipFill>
        <p:spPr>
          <a:xfrm>
            <a:off x="3571920" y="4357800"/>
            <a:ext cx="3203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The health benefits of physical activ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hysical activity is not everything!  It is only one part of a healthy lifestyle made up of a healthy diet, high self-esteem, resilience, health weight and not smoking.  Socio-economic factors such as income, education, transport and culture also have an impact upon an individ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2" name="Picture 3" descr="Tennis-02.gif"/>
          <p:cNvPicPr/>
          <p:nvPr/>
        </p:nvPicPr>
        <p:blipFill>
          <a:blip r:embed="rId1"/>
          <a:stretch/>
        </p:blipFill>
        <p:spPr>
          <a:xfrm>
            <a:off x="3143160" y="3738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hysical inactiv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hysical inactivity is linked to many health related condi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is the definition of obesit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ist 5 of some of the main health problems linked to obes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is the difference between types 1 and 2 diabetes?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y is diabetes considered to be a lifestyle disea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dering social, cathartic and ascetic experiences, how can physical activity benefit depression, anxiety and social isol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How can physical activity benefit those suffering from hypertension, cardiovascular disease and high cholestero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5" name="Picture 3" descr="football_player_running_toss_ball_md_clr.gif"/>
          <p:cNvPicPr/>
          <p:nvPr/>
        </p:nvPicPr>
        <p:blipFill>
          <a:blip r:embed="rId1"/>
          <a:stretch/>
        </p:blipFill>
        <p:spPr>
          <a:xfrm>
            <a:off x="6143760" y="281160"/>
            <a:ext cx="126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can physical activity benefit older adult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What are the financial costs of making our lifestyle easier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much exercise should Australians be participating in to achieve appropriate levels of wellbe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3" descr="Golf-01.gif"/>
          <p:cNvPicPr/>
          <p:nvPr/>
        </p:nvPicPr>
        <p:blipFill>
          <a:blip r:embed="rId2"/>
          <a:stretch/>
        </p:blipFill>
        <p:spPr>
          <a:xfrm>
            <a:off x="3571920" y="4143240"/>
            <a:ext cx="27241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do individual reasons change through their lifesp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can gender affect participation in physical activ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Why would snow skiing and sailing be limiting sports in regard to participation in physical activ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List 5 beneficial affects of multicultural Australia in regard to participation in physical activ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0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3" descr="tn_dancergal.gif"/>
          <p:cNvPicPr/>
          <p:nvPr/>
        </p:nvPicPr>
        <p:blipFill>
          <a:blip r:embed="rId2"/>
          <a:stretch/>
        </p:blipFill>
        <p:spPr>
          <a:xfrm>
            <a:off x="4071960" y="507204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ocial reas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ar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Schools/workpla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ee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The med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hysical/environmental reas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253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3" descr="swiming.gif"/>
          <p:cNvPicPr/>
          <p:nvPr/>
        </p:nvPicPr>
        <p:blipFill>
          <a:blip r:embed="rId2"/>
          <a:stretch/>
        </p:blipFill>
        <p:spPr>
          <a:xfrm>
            <a:off x="5286240" y="1714680"/>
            <a:ext cx="2689200" cy="12189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4" descr="Dancer-01.gif"/>
          <p:cNvPicPr/>
          <p:nvPr/>
        </p:nvPicPr>
        <p:blipFill>
          <a:blip r:embed="rId3"/>
          <a:stretch/>
        </p:blipFill>
        <p:spPr>
          <a:xfrm>
            <a:off x="2786040" y="4071960"/>
            <a:ext cx="24541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tages of change theory as a model of behaviour helping us to understand why we participate in physical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Interview your parents utilising the stages of change theory (pages 264 – 265).  Ask about their experiences of these stag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7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" descr="Floating.gif"/>
          <p:cNvPicPr/>
          <p:nvPr/>
        </p:nvPicPr>
        <p:blipFill>
          <a:blip r:embed="rId2"/>
          <a:stretch/>
        </p:blipFill>
        <p:spPr>
          <a:xfrm>
            <a:off x="3714840" y="4714920"/>
            <a:ext cx="28303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Consider the 21 tips for getting more action into your day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During your parent interview suggest some of these tips as possibilities for increasing their involvement in physical activity.  Which ones would suit them most?   Wh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List 5 pieces of advice that you would give a person who is beginning to start a program of walking each day?  Explain this advic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61" name="Picture 3" descr="four.gif"/>
          <p:cNvPicPr/>
          <p:nvPr/>
        </p:nvPicPr>
        <p:blipFill>
          <a:blip r:embed="rId2"/>
          <a:stretch/>
        </p:blipFill>
        <p:spPr>
          <a:xfrm>
            <a:off x="6715080" y="5214960"/>
            <a:ext cx="11336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5:53:33Z</dcterms:created>
  <dc:creator>Lyn Clarkson</dc:creator>
  <dc:description/>
  <dc:language>en-US</dc:language>
  <cp:lastModifiedBy>Lyn Clarkson</cp:lastModifiedBy>
  <dcterms:modified xsi:type="dcterms:W3CDTF">2007-12-10T01:07:24Z</dcterms:modified>
  <cp:revision>14</cp:revision>
  <dc:subject/>
  <dc:title>PROMOTING PHYSICAL ACTIVITY</dc:title>
</cp:coreProperties>
</file>